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F796F-61EF-43CA-89B6-1CF5559B0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B8BBC-6C0A-4650-8A52-4D72183B08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56C5D-7348-48A4-B24D-ED4B76003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639E8-8791-4CCE-9C51-44450A7CF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43EE7-CD54-4AEF-9A8F-6E3DD6688F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BC395-FF66-423B-A8B1-1C60FF375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20EDA-D91B-40A6-8FF3-AB2C5BA54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1DF61-6DA4-4941-B628-87D42C372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0F9BB-638F-4592-BC01-71DCB0FFA5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E08E4-D86B-4AFE-9150-6BAB48CC1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1337C-35CF-4492-9097-C538BED13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7A938-0881-422F-AE6E-B45359EB5F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856AD1C4-A7F2-4FFC-AE05-7CD325B02730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NEO 2 – CW 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1125360"/>
            <a:ext cx="5256000" cy="52563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51640" y="1125360"/>
            <a:ext cx="3313080" cy="52563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80560" y="1197000"/>
            <a:ext cx="39128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ed achievements and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ctual c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24880" y="1197000"/>
            <a:ext cx="26679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ed achiev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ext c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1916280"/>
            <a:ext cx="525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51640" y="1916280"/>
            <a:ext cx="31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2280" y="2077920"/>
            <a:ext cx="4941720" cy="34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1 decla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HW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W (and ST) due to RIM not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tatus very critical for NEO at al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Escalation to MP board and CEO of R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ctual planning for EDS: 61K at 24.9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1 Board and A1 Wing Board available and Service mode ru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2349360"/>
            <a:ext cx="2952720" cy="37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M technical workshop and decision how to proceed with 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mechanical data to sup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A1 Prototype /w service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Jürgen Schmitz</cp:lastModifiedBy>
  <cp:lastPrinted>2003-07-02T13:24:00Z</cp:lastPrinted>
  <dcterms:modified xsi:type="dcterms:W3CDTF">2004-01-30T07:51:38Z</dcterms:modified>
  <cp:revision>98</cp:revision>
  <dc:subject/>
  <dc:title>No Slide Title</dc:title>
</cp:coreProperties>
</file>